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083-0CF7-40D5-A537-4950606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91E-63CD-455F-BC22-6BB9573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BBA-5415-4EFF-AFBE-CF6913A6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06D-C2AF-48F8-9253-5AF4D545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2A95-AA9F-4A4B-AF0A-81690C7A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B74-6F9E-467E-8756-E977FA5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0234-DF77-4E01-AB46-ADFFFC7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D350-E027-4001-AEAA-1CF076A5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2EC-17D0-4B88-A445-B8392CC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373B-70CB-43B7-88E4-45CBC9E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8B5-DBB5-46CA-A5AD-F5B15E2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33C-5AFC-4A08-8144-80EC9A4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EFA-C7CA-4047-9498-C74886C4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291C-E104-4DDE-B4D3-2368E58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4F9-7DCD-4BC0-B469-80338AD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8D07-E461-432C-89B0-2BBE333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0ED-8E61-4C1E-A9A1-2F587681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AD5-9EBB-4E92-97AD-0CB04AF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B65-DD88-4D06-9F2D-C5112F4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4E4-5490-45EB-BA51-7CF34FC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C03-2140-424F-A44D-E4CE5BE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FF8-418A-4B54-9390-28517E2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1C4-5AEF-482E-8732-BFE74BB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3A8-91D4-4B52-B38D-1006B1F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068-0E36-4591-B07A-0A0E2EBFC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383D-5C69-4E76-9E7C-9AAAD7C1E6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urlz MT"/>
              </a:rPr>
              <a:t>Grade 8 Science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ing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18669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059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bert Hooke (1635 – 170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t microscopes                             and observ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served tiny box                              like compartments in cork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467080" cy="3105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ert Hooke (1635 – 170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d these small                     structures as     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ula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, meaning  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 roo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in La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day called                       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44373" b="0"/>
          <a:stretch/>
        </p:blipFill>
        <p:spPr>
          <a:xfrm>
            <a:off x="5943600" y="3048120"/>
            <a:ext cx="27432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esco Red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alian physic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rried out controlled experiment to prove maggots (baby flies) came from living flies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4e4e4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esco Redi’s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562360" cy="270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48769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t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r =  no maggo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5029200"/>
            <a:ext cx="83844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t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cove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rs = maggo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477120" y="4952880"/>
            <a:ext cx="83808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533412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living things are composed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or more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lls are the basic units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ucture and function in al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New Century Schoolbook"/>
              </a:rPr>
              <a:t>Road to Discovery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cells come from previously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isting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tivity of an entire organism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pends on the total activity of i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New Century Schoolbook"/>
              </a:rPr>
              <a:t>Chapter 1.1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195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Microscop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an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New Century Schoolbook"/>
              </a:rPr>
              <a:t>Ce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ton van Leeuwenhoek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ff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utch merch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nd small lenses to make first “microscope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Early Microscop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4343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Leeuwenho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rca 16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087640" cy="570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24080" y="3886200"/>
            <a:ext cx="27432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to observe single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895480" cy="2000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Early Microscop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n Leeuwenhoek was the first to observe small organisms made up of only on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led these                        organisms                    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imalcul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Van Leeuwenhoek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14720" cy="321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Early Microscopes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845080" cy="439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6160" y="1143000"/>
            <a:ext cx="337032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165800" y="1219320"/>
            <a:ext cx="11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irc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18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Microscopes Toda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und Light Microscopes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lenses with               magnification of up                       to 2000 times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000x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90512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Parts of a Microscope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10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e4e4"/>
                </a:solidFill>
                <a:latin typeface="New Century Schoolbook"/>
              </a:rPr>
              <a:t>Microscopes Today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762012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Microscopes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ams of electrons are       bounced off the sample,           then enlar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rn scopes can                   magnify up to                                  2 000 000 times!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079840" y="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9:42Z</dcterms:created>
  <dc:creator>Jeff Whipple</dc:creator>
  <dc:description/>
  <dc:language>en-US</dc:language>
  <cp:lastModifiedBy>Administrator</cp:lastModifiedBy>
  <dcterms:modified xsi:type="dcterms:W3CDTF">2006-01-10T17:10:42Z</dcterms:modified>
  <cp:revision>10</cp:revision>
  <dc:subject/>
  <dc:title>Grade 8 Science</dc:title>
</cp:coreProperties>
</file>